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5898F-9ABE-4C17-BDF3-052A5AE31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2A745-E7FB-4ADD-BD5F-D402D126B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AB056-6B8A-4B1F-955D-4767AC4CF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0E7AF-BF4A-4A0F-853A-45057F8C9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64BFE9-51F3-46B1-8C6E-94FC8DFF06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06EE1-5486-4743-B64D-D8AA2540A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E7F49-B5F6-4DE2-A822-740FEB179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E7187-984B-48A3-B692-DA6F189A5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86979-8E5B-4DD0-9C31-02D094655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CF7E4-94A8-42F8-A1FF-98FABB2FD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08E35-04BA-4FE9-8F79-641E60D1D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1F41D-EF9C-4DB3-83E0-EB17815DF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32A75-28D0-4B11-8D80-A91A08413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5158B-9D70-479F-A9B3-5118D7AD4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BCBEE-D9C6-4DB1-9D62-3989E0110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65E5F7-D556-480D-A831-71ACF60C58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74B58E-A66E-41BF-8F24-96F13678C0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CC7E54-C864-482C-BA9B-1134CF8CCD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D78C18-51CE-4214-BD29-01CF9CC633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CEBB1E-17B8-4F9B-A474-543BCD08AB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BE36B3-8CB2-48B4-AD24-FEBADF5640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40C558-E7C6-477A-9727-FC23E08AC9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6FD66-ECCA-4970-8974-B5D7EADAE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897274-2C8A-4844-A385-3D00E08C13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E2833B-9DEE-4494-B6FC-22EAFA99FF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FD01A4-18C9-46B1-905B-8D8284A2EC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A38B02-40CC-419D-A0B2-D7FF56EDB7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AF75BC-DF21-4D71-AF69-9DC592690A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20A253-70CE-4D54-9285-32249232B5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7627BB-0912-4FAB-A446-1B9D81BE0C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9F218D-BB22-4C41-B106-79D2931DEB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8A2BDD-2B6F-4059-B29A-3B0D0BAB6C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6823B3-8051-4FFE-9F6A-8096855D58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20966-87D3-4804-80FE-6D0E7F11D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CBC708-227C-4D09-9705-4BF9A4087B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32ED7F-BEB5-44AF-8E63-DB296D6325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E8317E-8DDD-495F-8090-19C49358FF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88B620-8561-4710-B740-58BAAE7327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4132EA-FCFE-4350-9896-2008AF681E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225EF4-FB23-432C-B189-7938FDFAF5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618A0D-6DD1-46B4-87CC-116E4B97C9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018A2C-7D8F-450C-AAF1-654BC81F06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E62A84-9529-4C88-BD4C-6C46DAEAEB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5D5751-9A9D-43BE-A6DB-FD53D03246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612A4-D842-427E-896E-354D1235D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1B72AE-AEDD-433B-99D3-9E9E23A80D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31AA10-C3A8-4736-B32C-CD765020D0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C75D33-371F-48E4-8B37-54B7F6F4EE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9025ED-8554-4437-8372-BC0738B279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18F125-EBEA-432C-B420-EF732A4A30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328D18-6A59-48F8-98CE-CBEAE1CDC7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78F5C2-D0D5-4F41-908C-909513E309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06EA27-5266-4897-8533-99E7AF608B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18E650-288D-4559-A593-8ACD09DF46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CDEF97-344F-404B-AD2C-3A26B19C9B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A1B73-1DCD-4A3C-9299-C012D28F7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30B8C4-292A-460B-A820-FEB3F388D3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24C55F-84D3-45F2-BC35-177F619958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B0405C-2073-4E36-BD8C-A9CFC94609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0FDA2C-51C2-4A7E-8CA3-83F1967F37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C29BF4-16B2-40B3-A6CF-CF1AE87946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ED086E-7C3C-4AFB-BC34-2A55FBE9A1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BE2F83-D85C-4B2F-9FC2-9D9DB421F1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4EFA10-1684-487D-BFEA-F00B140DFA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B3995A-27E9-4BDD-B1CC-E7C1F11C81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7498B3-C75A-4538-832A-3F5774BC9B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03566-4D01-47AF-A208-4AFDEB317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881B41-3E97-4C18-8B6F-53F657C0D7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AA9694-1FAC-4D25-8033-A4F0F1947A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2593E8-961C-4A95-938F-486C7201E6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C337FF-3710-4B6B-AA4B-EE9B91CB77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E34744-E1C8-435B-99BD-BE83375DD7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BED3DE-9BB6-45C9-A77E-71DAA8CA88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A8137E-12A4-4512-B0ED-0DF72500E7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9A1D0A-EAA7-4173-BAC2-9B60E09E43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A520DD-33BA-4F5E-861F-6FB7A97872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1B6F53-4B97-4019-ADA6-C3C34D3C07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8971C-A922-4340-A815-AA7BD9927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DF65FB-EE33-43DD-B1C5-51038B257F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C65DFF-DD81-4259-9D90-EE6E25F9EE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BF3B5E-9759-4DB5-99B3-5463B1D0FD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960777-16DD-4F34-98E3-EA99A6C8CA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ED0FA7-39CD-4CE1-B888-9CE49CC471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ADF4A-5F56-49C7-A747-0223E1CBE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1519-6947-43D6-8D2A-D0D863BC93BB}" type="slidenum">
              <a:rPr b="0" lang="en-CA"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4ADF-833A-45BA-A950-FDDE17EA44B4}" type="slidenum">
              <a:rPr b="0" lang="en-CA"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A9592-4BDD-4035-B643-807AF3B21867}" type="slidenum">
              <a:rPr b="0" lang="en-CA"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8C48D-1AF1-4E9D-A82A-5A22227B84C4}" type="slidenum">
              <a:rPr b="0" lang="en-CA"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FCA4-379B-4C87-B7D2-099491CAFAAF}" type="slidenum">
              <a:rPr b="0" lang="en-CA"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B7B1-8861-4F6E-80C0-5A62B120ABB0}" type="slidenum">
              <a:rPr b="0" lang="en-CA"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051F-F72A-459D-B891-A11851B54E44}" type="slidenum">
              <a:rPr b="0" lang="en-CA"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536400" y="768240"/>
            <a:ext cx="8326440" cy="1481400"/>
          </a:xfrm>
          <a:prstGeom prst="rect">
            <a:avLst/>
          </a:prstGeom>
          <a:ln w="0">
            <a:noFill/>
          </a:ln>
        </p:spPr>
      </p:pic>
      <p:pic>
        <p:nvPicPr>
          <p:cNvPr id="302" name="Subtitle 2" descr=""/>
          <p:cNvPicPr/>
          <p:nvPr/>
        </p:nvPicPr>
        <p:blipFill>
          <a:blip r:embed="rId2"/>
          <a:stretch/>
        </p:blipFill>
        <p:spPr>
          <a:xfrm>
            <a:off x="536400" y="2163600"/>
            <a:ext cx="8174160" cy="1847880"/>
          </a:xfrm>
          <a:prstGeom prst="rect">
            <a:avLst/>
          </a:prstGeom>
          <a:ln w="0">
            <a:noFill/>
          </a:ln>
        </p:spPr>
      </p:pic>
      <p:pic>
        <p:nvPicPr>
          <p:cNvPr id="303" name="Picture 2" descr="Giulio-cesare-enhanced 1-800x1450.jpg"/>
          <p:cNvPicPr/>
          <p:nvPr/>
        </p:nvPicPr>
        <p:blipFill>
          <a:blip r:embed="rId3"/>
          <a:stretch/>
        </p:blipFill>
        <p:spPr>
          <a:xfrm>
            <a:off x="353880" y="2419200"/>
            <a:ext cx="2200320" cy="398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450720" y="262080"/>
            <a:ext cx="8242560" cy="1407960"/>
          </a:xfrm>
          <a:prstGeom prst="rect">
            <a:avLst/>
          </a:prstGeom>
          <a:ln w="0">
            <a:noFill/>
          </a:ln>
        </p:spPr>
      </p:pic>
      <p:sp>
        <p:nvSpPr>
          <p:cNvPr id="324" name=""/>
          <p:cNvSpPr txBox="1"/>
          <p:nvPr/>
        </p:nvSpPr>
        <p:spPr>
          <a:xfrm>
            <a:off x="457200" y="1357200"/>
            <a:ext cx="8229600" cy="5214960"/>
          </a:xfrm>
          <a:prstGeom prst="rect">
            <a:avLst/>
          </a:prstGeom>
          <a:noFill/>
          <a:ln w="0">
            <a:noFill/>
          </a:ln>
        </p:spPr>
        <p:txBody>
          <a:bodyPr anchor="t">
            <a:normAutofit/>
          </a:bodyPr>
          <a:p>
            <a:pPr marL="447840" indent="-382680">
              <a:lnSpc>
                <a:spcPct val="100000"/>
              </a:lnSpc>
              <a:spcBef>
                <a:spcPts val="3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Rockwell"/>
              </a:rPr>
              <a:t>"Julius Caesar -." </a:t>
            </a:r>
            <a:r>
              <a:rPr b="0" i="1" lang="en-CA" sz="1200" spc="-1" strike="noStrike">
                <a:solidFill>
                  <a:srgbClr val="ffffff"/>
                </a:solidFill>
                <a:latin typeface="Rockwell"/>
              </a:rPr>
              <a:t>Wikipedia, the free encyclopedia</a:t>
            </a:r>
            <a:r>
              <a:rPr b="0" lang="en-CA" sz="1200" spc="-1" strike="noStrike">
                <a:solidFill>
                  <a:srgbClr val="ffffff"/>
                </a:solidFill>
                <a:latin typeface="Rockwell"/>
              </a:rPr>
              <a:t>. Web. 06 Jan. 2010. &lt;http://en.wikipedia.org/wiki/Julius_Caesar&gt;.</a:t>
            </a:r>
            <a:endParaRPr b="0" lang="en-US" sz="1200" spc="-1" strike="noStrike">
              <a:solidFill>
                <a:srgbClr val="ffffff"/>
              </a:solidFill>
              <a:latin typeface="Century Gothic"/>
            </a:endParaRPr>
          </a:p>
          <a:p>
            <a:pPr marL="447840" indent="-382680">
              <a:lnSpc>
                <a:spcPct val="100000"/>
              </a:lnSpc>
              <a:spcBef>
                <a:spcPts val="3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Rockwell"/>
              </a:rPr>
              <a:t>"Google Image Result for http://wpcontent.answers.com/wikipedia/en/timeline/99e6d81f0dcfcdef5404fdbcfec82923.png." </a:t>
            </a:r>
            <a:r>
              <a:rPr b="0" i="1" lang="en-CA" sz="1200" spc="-1" strike="noStrike">
                <a:solidFill>
                  <a:srgbClr val="ffffff"/>
                </a:solidFill>
                <a:latin typeface="Rockwell"/>
              </a:rPr>
              <a:t>Google Images</a:t>
            </a:r>
            <a:r>
              <a:rPr b="0" lang="en-CA" sz="1200" spc="-1" strike="noStrike">
                <a:solidFill>
                  <a:srgbClr val="ffffff"/>
                </a:solidFill>
                <a:latin typeface="Rockwell"/>
              </a:rPr>
              <a:t>. Web. 06 Jan. 2010. &lt;http://images.google.ca/imgres?imgurl=http://wpcontent.answers.com/wikipedia/en/timeline/99e6d81f0dcfcdef5404fdbcfec82923.png&amp;imgrefurl=http://www.answers.com/topic/julius-caesar&amp;usg=__Nvtn5bI6O1iRGyL21ole9GyFPdE=&amp;h=1207&amp;w=600&amp;sz=35&amp;hl=en&amp;start=1&amp;um=1&amp;tbnid=uQWzqVXLzKeSwM:&amp;tbnh=150&amp;tbnw=75&amp;prev=/images%3Fq%3Djulius%2Bcaesar%2Btimeline%26hl%3Den%26rlz%3D1T4ACAW_en___CA359%26sa%3DN%26um%3D1&gt;.</a:t>
            </a:r>
            <a:endParaRPr b="0" lang="en-US" sz="1200" spc="-1" strike="noStrike">
              <a:solidFill>
                <a:srgbClr val="ffffff"/>
              </a:solidFill>
              <a:latin typeface="Century Gothic"/>
            </a:endParaRPr>
          </a:p>
          <a:p>
            <a:pPr marL="447840" indent="-382680">
              <a:lnSpc>
                <a:spcPct val="100000"/>
              </a:lnSpc>
              <a:spcBef>
                <a:spcPts val="3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Rockwell"/>
              </a:rPr>
              <a:t>"Google Image Result for http://oil-paintingartist.com/other/murder_julian_cesar_b.jpg." </a:t>
            </a:r>
            <a:r>
              <a:rPr b="0" i="1" lang="en-CA" sz="1200" spc="-1" strike="noStrike">
                <a:solidFill>
                  <a:srgbClr val="ffffff"/>
                </a:solidFill>
                <a:latin typeface="Rockwell"/>
              </a:rPr>
              <a:t>Google Images</a:t>
            </a:r>
            <a:r>
              <a:rPr b="0" lang="en-CA" sz="1200" spc="-1" strike="noStrike">
                <a:solidFill>
                  <a:srgbClr val="ffffff"/>
                </a:solidFill>
                <a:latin typeface="Rockwell"/>
              </a:rPr>
              <a:t>. Web. 06 Jan. 2010. &lt;http://images.google.ca/imgres?imgurl=http://oil-paintingartist.com/other/murder_julian_cesar_b.jpg&amp;imgrefurl=http://colleeno-oneilc.blogspot.com/2008/03/murder-of-julian-cesar-irina.html&amp;usg=__5jS17-jHTPbwSLYVNvf4Oj1anik=&amp;h=339&amp;w=560&amp;sz=58&amp;hl=en&amp;start=2&amp;um=1&amp;tbnid=tWaZtBpQb25Y7M:&amp;tbnh=81&amp;tbnw=133&amp;prev=/images%3Fq%3Dcaesar%2527s%2Bmurder%26hl%3Den%26rlz%3D1R2ACAW_en%26sa%3DN%26um%3D1&gt;.</a:t>
            </a:r>
            <a:endParaRPr b="0" lang="en-US" sz="1200" spc="-1" strike="noStrike">
              <a:solidFill>
                <a:srgbClr val="ffffff"/>
              </a:solidFill>
              <a:latin typeface="Century Gothic"/>
            </a:endParaRPr>
          </a:p>
          <a:p>
            <a:pPr marL="447840" indent="-382680">
              <a:lnSpc>
                <a:spcPct val="100000"/>
              </a:lnSpc>
              <a:spcBef>
                <a:spcPts val="3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Rockwell"/>
              </a:rPr>
              <a:t>"Timeline of Julius Caesar." </a:t>
            </a:r>
            <a:r>
              <a:rPr b="0" i="1" lang="en-CA" sz="1200" spc="-1" strike="noStrike">
                <a:solidFill>
                  <a:srgbClr val="ffffff"/>
                </a:solidFill>
                <a:latin typeface="Rockwell"/>
              </a:rPr>
              <a:t>Ancient / Classical History - Ancient Greece &amp; Rome &amp; Classics Research Guide</a:t>
            </a:r>
            <a:r>
              <a:rPr b="0" lang="en-CA" sz="1200" spc="-1" strike="noStrike">
                <a:solidFill>
                  <a:srgbClr val="ffffff"/>
                </a:solidFill>
                <a:latin typeface="Rockwell"/>
              </a:rPr>
              <a:t>. Web. 06 Jan. 2010. &lt;http://ancienthistory.about.com/library/bl/bl_time_caesar.htm&gt;.</a:t>
            </a:r>
            <a:endParaRPr b="0" lang="en-US" sz="1200" spc="-1" strike="noStrike">
              <a:solidFill>
                <a:srgbClr val="ffffff"/>
              </a:solidFill>
              <a:latin typeface="Century Gothic"/>
            </a:endParaRPr>
          </a:p>
          <a:p>
            <a:pPr marL="447840" indent="-382680">
              <a:lnSpc>
                <a:spcPct val="100000"/>
              </a:lnSpc>
              <a:spcBef>
                <a:spcPts val="3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Rockwell"/>
              </a:rPr>
              <a:t>"Google Image Result for http://www.american-pictures.com/genealogy/descent/photos/Julius.Caesar.2.jpg." </a:t>
            </a:r>
            <a:r>
              <a:rPr b="0" i="1" lang="en-CA" sz="1200" spc="-1" strike="noStrike">
                <a:solidFill>
                  <a:srgbClr val="ffffff"/>
                </a:solidFill>
                <a:latin typeface="Rockwell"/>
              </a:rPr>
              <a:t>Google Images</a:t>
            </a:r>
            <a:r>
              <a:rPr b="0" lang="en-CA" sz="1200" spc="-1" strike="noStrike">
                <a:solidFill>
                  <a:srgbClr val="ffffff"/>
                </a:solidFill>
                <a:latin typeface="Rockwell"/>
              </a:rPr>
              <a:t>. Web. 06 Jan. 2010. &lt;http://images.google.ca/imgres?imgurl=http://www.american-pictures.com/genealogy/descent/photos/Julius.Caesar.2.jpg&amp;imgrefurl=http://www.american-pictures.com/genealogy/descent/Julius.Caesar.htm&amp;usg=__v2pjaUXQrAWOc0H6wkstjk7V1h4=&amp;h=316&amp;w=255&amp;sz=10&amp;hl=en&amp;start=2&amp;um=1&amp;tbnid=Cy2CvJfFw47c2M:&amp;tbnh=117&amp;tbnw=94&amp;prev=/images%3Fq%3Djulius%2Bcaesar%26hl%3Den%26rlz%3D1T4ACAW_en___CA359%26sa%3DN%26um%3D1&gt;.</a:t>
            </a:r>
            <a:endParaRPr b="0" lang="en-US" sz="1200" spc="-1" strike="noStrike">
              <a:solidFill>
                <a:srgbClr val="ffffff"/>
              </a:solidFill>
              <a:latin typeface="Century Gothic"/>
            </a:endParaRPr>
          </a:p>
          <a:p>
            <a:pPr marL="447840" indent="-382680">
              <a:lnSpc>
                <a:spcPct val="100000"/>
              </a:lnSpc>
              <a:spcBef>
                <a:spcPts val="3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marL="447840" indent="-382680">
              <a:lnSpc>
                <a:spcPct val="100000"/>
              </a:lnSpc>
              <a:spcBef>
                <a:spcPts val="3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Title 1" descr=""/>
          <p:cNvPicPr/>
          <p:nvPr/>
        </p:nvPicPr>
        <p:blipFill>
          <a:blip r:embed="rId1"/>
          <a:stretch/>
        </p:blipFill>
        <p:spPr>
          <a:xfrm>
            <a:off x="450720" y="208080"/>
            <a:ext cx="8242560" cy="1461960"/>
          </a:xfrm>
          <a:prstGeom prst="rect">
            <a:avLst/>
          </a:prstGeom>
          <a:ln w="0">
            <a:noFill/>
          </a:ln>
        </p:spPr>
      </p:pic>
      <p:pic>
        <p:nvPicPr>
          <p:cNvPr id="305" name="Picture 2" descr="File:Map of the Ancient Rome at Caesar time (with conquests)-fr.svg"/>
          <p:cNvPicPr/>
          <p:nvPr/>
        </p:nvPicPr>
        <p:blipFill>
          <a:blip r:embed="rId2"/>
          <a:stretch/>
        </p:blipFill>
        <p:spPr>
          <a:xfrm>
            <a:off x="731880" y="1987560"/>
            <a:ext cx="7630920" cy="451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450720" y="128520"/>
            <a:ext cx="8296560" cy="1541520"/>
          </a:xfrm>
          <a:prstGeom prst="rect">
            <a:avLst/>
          </a:prstGeom>
          <a:ln w="0">
            <a:noFill/>
          </a:ln>
        </p:spPr>
      </p:pic>
      <p:sp>
        <p:nvSpPr>
          <p:cNvPr id="307" name=""/>
          <p:cNvSpPr txBox="1"/>
          <p:nvPr/>
        </p:nvSpPr>
        <p:spPr>
          <a:xfrm>
            <a:off x="1428840" y="4714560"/>
            <a:ext cx="6043680" cy="1832040"/>
          </a:xfrm>
          <a:prstGeom prst="rect">
            <a:avLst/>
          </a:prstGeom>
          <a:noFill/>
          <a:ln w="0">
            <a:noFill/>
          </a:ln>
        </p:spPr>
        <p:txBody>
          <a:bodyPr anchor="t">
            <a:normAutofit fontScale="84000"/>
          </a:bodyPr>
          <a:p>
            <a:pPr marL="375840" indent="-321120" algn="ctr">
              <a:lnSpc>
                <a:spcPct val="80000"/>
              </a:lnSpc>
              <a:spcBef>
                <a:spcPts val="8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ff5698"/>
                </a:solidFill>
                <a:latin typeface="Rockwell"/>
              </a:rPr>
              <a:t>http://wpcontent.answers.com/wikipedia/en/timeline/99e6d81f0dcfcdef5404fdbcfec82923.png</a:t>
            </a:r>
            <a:endParaRPr b="0" lang="en-US" sz="3400" spc="-1" strike="noStrike">
              <a:solidFill>
                <a:srgbClr val="ffffff"/>
              </a:solidFill>
              <a:latin typeface="Century Gothic"/>
            </a:endParaRPr>
          </a:p>
        </p:txBody>
      </p:sp>
      <p:sp>
        <p:nvSpPr>
          <p:cNvPr id="308" name="TextBox 3"/>
          <p:cNvSpPr/>
          <p:nvPr/>
        </p:nvSpPr>
        <p:spPr>
          <a:xfrm>
            <a:off x="857160" y="2071800"/>
            <a:ext cx="7572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Rockwell"/>
                <a:ea typeface="Kartika"/>
              </a:rPr>
              <a:t>Military, Personal and Political Timel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450720" y="262080"/>
            <a:ext cx="8242560" cy="1407960"/>
          </a:xfrm>
          <a:prstGeom prst="rect">
            <a:avLst/>
          </a:prstGeom>
          <a:ln w="0">
            <a:noFill/>
          </a:ln>
        </p:spPr>
      </p:pic>
      <p:sp>
        <p:nvSpPr>
          <p:cNvPr id="310"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3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Rockwell"/>
              </a:rPr>
              <a:t>Julius Caesar was born into the well known family of the Julus claiming to be descendants of the Trojan prince Aeneaus. At the early age of sixteen Caesar`s father died unexpectedly whilst putting on his shoes, making Caesar head of the family.  Then after being made a high priest Caesar married Cornelia. Then when Sulla a war figurehead declared himself dictator, Caesar left the Rome and joined the army. After serving with distinction  and winning the Civic Crown due to his influences in the siege of Mytilene, Caesar returned to Rome after Sullas death in 78 BC.  On his return he purchased a home in lower suburb of Rome where he became a legal advocacy.  His next step in life was to travel to Rhodes to study under Apollonius Molon. Unfortunately for Caesar he was captured by Cicilian pirates. After being captured , the pirates decided to ask for ransom for Caesar. Their asking price was twenty talents of silver. Caesar then laughed and told them to ask for fifty. After the ransom was paid Caesar then had the pirates captured and crucified. In 69 BC Caesar was elected Quaestor. Also this year his Aunt Julia passed away soon followed by Caesar`s wife. In 67 BC Caesar married Pompeia was elected Aedile. Then in 59 BC Caesar was elected as a consul in Rome. After overturning a rule Caesar gained control of four legions. In 48 BC Caesar was declared a consul for the second time then again in 46 BC. In 45 BC Caesar became dictator of the Roman Empire, and then was brutally assassinated in 44 BC.</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95120" y="262080"/>
            <a:ext cx="8498160" cy="1407960"/>
          </a:xfrm>
          <a:prstGeom prst="rect">
            <a:avLst/>
          </a:prstGeom>
          <a:ln w="0">
            <a:noFill/>
          </a:ln>
        </p:spPr>
      </p:pic>
      <p:sp>
        <p:nvSpPr>
          <p:cNvPr id="312"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During Caesar’s life many important events were happening around him.</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91to 88 BC – Roman Social was is fought over Roman citizenship between Rome and its Italian allies.</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85 BC – Caesar‘s father passes away unexpectedly one morning.</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84 BC – Caesar takes Cornelia Cinna to be his wife.</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82 BC – Sulla returns to Rome and seizes it declaring himself dictator for life.</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81 BC – Sulla resigns his dictatorship and re-establishes consulship. </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78 BC – Sulla passes away. </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78 BC – Caesar makes his return to Rome.</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75 BC – Caesar attempts to travel to Rhodes to study but is captured by pirates. Caesar is released after ransom is paid and Caesar has the pirates captured and crucified.</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195120" y="262080"/>
            <a:ext cx="8498160" cy="1407960"/>
          </a:xfrm>
          <a:prstGeom prst="rect">
            <a:avLst/>
          </a:prstGeom>
          <a:ln w="0">
            <a:noFill/>
          </a:ln>
        </p:spPr>
      </p:pic>
      <p:sp>
        <p:nvSpPr>
          <p:cNvPr id="314"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73 BC – Elected to be Pontifex.</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69 BC – Cornelia passes away.</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67 BC – Weds Pompeia.</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65 BC – Elected Aedile.</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63 BC – Elected Pontifex Maximus.</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62 BC – Divorces Pompeia.</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61 BC – Becomes Governor of further Spain.</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60 BC – Becomes Consul.</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59 BC – Marries Calpurnia</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58 BC – Victory over Germany and Helveti.</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55 BC – Invades Britain.</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54 BC – Caesars daughter passes away. </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49 BC – Civil war begins.</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95120" y="262080"/>
            <a:ext cx="8498160" cy="1407960"/>
          </a:xfrm>
          <a:prstGeom prst="rect">
            <a:avLst/>
          </a:prstGeom>
          <a:ln w="0">
            <a:noFill/>
          </a:ln>
        </p:spPr>
      </p:pic>
      <p:sp>
        <p:nvSpPr>
          <p:cNvPr id="316" name=""/>
          <p:cNvSpPr txBox="1"/>
          <p:nvPr/>
        </p:nvSpPr>
        <p:spPr>
          <a:xfrm>
            <a:off x="457200" y="1882800"/>
            <a:ext cx="8229600" cy="2689200"/>
          </a:xfrm>
          <a:prstGeom prst="rect">
            <a:avLst/>
          </a:prstGeom>
          <a:noFill/>
          <a:ln w="0">
            <a:noFill/>
          </a:ln>
        </p:spPr>
        <p:txBody>
          <a:bodyPr anchor="t">
            <a:normAutofit/>
          </a:bodyPr>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Rockwell"/>
              </a:rPr>
              <a:t>48 BC – Caesars wife Pompeia is murdered.</a:t>
            </a:r>
            <a:endParaRPr b="0" lang="en-US" sz="3000" spc="-1" strike="noStrike">
              <a:solidFill>
                <a:srgbClr val="ffffff"/>
              </a:solidFill>
              <a:latin typeface="Century Gothic"/>
            </a:endParaRPr>
          </a:p>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Rockwell"/>
              </a:rPr>
              <a:t>45 BC – Caesar is declared dictator of the Roman Empire for life.</a:t>
            </a:r>
            <a:endParaRPr b="0" lang="en-US" sz="3000" spc="-1" strike="noStrike">
              <a:solidFill>
                <a:srgbClr val="ffffff"/>
              </a:solidFill>
              <a:latin typeface="Century Gothic"/>
            </a:endParaRPr>
          </a:p>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Rockwell"/>
              </a:rPr>
              <a:t>44 BC – Caesar is brutally murdered.</a:t>
            </a:r>
            <a:endParaRPr b="0" lang="en-US" sz="3000" spc="-1" strike="noStrike">
              <a:solidFill>
                <a:srgbClr val="ffffff"/>
              </a:solidFill>
              <a:latin typeface="Century Gothic"/>
            </a:endParaRPr>
          </a:p>
        </p:txBody>
      </p:sp>
      <p:pic>
        <p:nvPicPr>
          <p:cNvPr id="317" name="Picture 2" descr="http://oil-paintingartist.com/other/murder_julian_cesar_b.jpg"/>
          <p:cNvPicPr/>
          <p:nvPr/>
        </p:nvPicPr>
        <p:blipFill>
          <a:blip r:embed="rId2"/>
          <a:stretch/>
        </p:blipFill>
        <p:spPr>
          <a:xfrm>
            <a:off x="1805040" y="4425840"/>
            <a:ext cx="5344920" cy="2237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95120" y="128520"/>
            <a:ext cx="8498160" cy="1541520"/>
          </a:xfrm>
          <a:prstGeom prst="rect">
            <a:avLst/>
          </a:prstGeom>
          <a:ln w="0">
            <a:noFill/>
          </a:ln>
        </p:spPr>
      </p:pic>
      <p:sp>
        <p:nvSpPr>
          <p:cNvPr id="319"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Rockwell"/>
              </a:rPr>
              <a:t>Caesar was a military genius.  Using strategy to out wit his opponents allowing him to gain fame within Rome.  To be in power one must control the public opinion in Rome.  His strategies lead to changes in military fighting.  For example; he utilized military formation and movement, allowing for fresh soldiers to remain at the front.  As he gained military success he also gained more military followers and funding from the senate. </a:t>
            </a:r>
            <a:endParaRPr b="0" lang="en-US" sz="1600" spc="-1" strike="noStrike">
              <a:solidFill>
                <a:srgbClr val="ffffff"/>
              </a:solidFill>
              <a:latin typeface="Century Gothic"/>
            </a:endParaRPr>
          </a:p>
          <a:p>
            <a:pPr marL="447840" indent="-382680">
              <a:lnSpc>
                <a:spcPct val="100000"/>
              </a:lnSpc>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Rockwell"/>
              </a:rPr>
              <a:t>Caesar maintained strong allegiances with the major house of Rome until family insult turned the House of Brutus against him which will ultimately lead to his murder in the senate in 44 BCE. </a:t>
            </a:r>
            <a:endParaRPr b="0" lang="en-US" sz="1600" spc="-1" strike="noStrike">
              <a:solidFill>
                <a:srgbClr val="ffffff"/>
              </a:solidFill>
              <a:latin typeface="Century Gothic"/>
            </a:endParaRPr>
          </a:p>
          <a:p>
            <a:pPr marL="447840" indent="-382680">
              <a:lnSpc>
                <a:spcPct val="100000"/>
              </a:lnSpc>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Rockwell"/>
              </a:rPr>
              <a:t>Caesar also happened to be smart man when it came to politics. He went about politics the way he did about war, aggressively. This would help him control the people but also lead to his death.</a:t>
            </a:r>
            <a:endParaRPr b="0" lang="en-US" sz="1600" spc="-1" strike="noStrike">
              <a:solidFill>
                <a:srgbClr val="ffffff"/>
              </a:solidFill>
              <a:latin typeface="Century Gothic"/>
            </a:endParaRPr>
          </a:p>
          <a:p>
            <a:pPr marL="447840" indent="-382680">
              <a:lnSpc>
                <a:spcPct val="100000"/>
              </a:lnSpc>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Rockwell"/>
              </a:rPr>
              <a:t>Caesar’s ideas are so influentual that his ideas were used in practice by Hitler, George Washington and the Britain's.</a:t>
            </a:r>
            <a:endParaRPr b="0" lang="en-US" sz="1600" spc="-1" strike="noStrike">
              <a:solidFill>
                <a:srgbClr val="ffffff"/>
              </a:solidFill>
              <a:latin typeface="Century Gothic"/>
            </a:endParaRPr>
          </a:p>
          <a:p>
            <a:pPr marL="447840" indent="-382680">
              <a:lnSpc>
                <a:spcPct val="100000"/>
              </a:lnSpc>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Rockwell"/>
              </a:rPr>
              <a:t>Although, Caesar gained power throw the Roman democracy he ultimately in his drive for power disregarded the system and crowned himself emperor.  </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195120" y="262080"/>
            <a:ext cx="8498160" cy="1407960"/>
          </a:xfrm>
          <a:prstGeom prst="rect">
            <a:avLst/>
          </a:prstGeom>
          <a:ln w="0">
            <a:noFill/>
          </a:ln>
        </p:spPr>
      </p:pic>
      <p:pic>
        <p:nvPicPr>
          <p:cNvPr id="321" name="Picture 2" descr="http://www.american-pictures.com/genealogy/descent/photos/Julius.Caesar.2.jpg"/>
          <p:cNvPicPr/>
          <p:nvPr/>
        </p:nvPicPr>
        <p:blipFill>
          <a:blip r:embed="rId2"/>
          <a:stretch/>
        </p:blipFill>
        <p:spPr>
          <a:xfrm>
            <a:off x="5353200" y="493560"/>
            <a:ext cx="2438280" cy="3024360"/>
          </a:xfrm>
          <a:prstGeom prst="rect">
            <a:avLst/>
          </a:prstGeom>
          <a:ln w="0">
            <a:noFill/>
          </a:ln>
        </p:spPr>
      </p:pic>
      <p:pic>
        <p:nvPicPr>
          <p:cNvPr id="322" name="Picture 5" descr="http://www.utexas.edu/courses/ancientfilmCC304/lecture22/images/3caesar.jpg"/>
          <p:cNvPicPr/>
          <p:nvPr/>
        </p:nvPicPr>
        <p:blipFill>
          <a:blip r:embed="rId3"/>
          <a:stretch/>
        </p:blipFill>
        <p:spPr>
          <a:xfrm>
            <a:off x="281160" y="1352520"/>
            <a:ext cx="3217680" cy="434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5T02:14:10Z</dcterms:created>
  <dc:creator>Brennan Cupplez</dc:creator>
  <dc:description/>
  <dc:language>en-US</dc:language>
  <cp:lastModifiedBy>Brennan Cupplez</cp:lastModifiedBy>
  <dcterms:modified xsi:type="dcterms:W3CDTF">2010-01-06T15:59:21Z</dcterms:modified>
  <cp:revision>27</cp:revision>
  <dc:subject/>
  <dc:title>Julius Caesar</dc:title>
</cp:coreProperties>
</file>